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617-FB8C-47FC-9BA6-08D24F0D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5BF-4ABB-4965-85F4-85FBFB4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72E-4BBB-4FE1-B154-1FD274DB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597-90C9-431F-82A0-023238C2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01B-9622-4AE9-BDB4-4441A7E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5B8-D500-4414-A9DE-F1B933E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445-5DAD-4BB5-9C5A-4E43A4D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CC1-FF11-40A0-9447-AF9788B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F39-5630-4304-A3A5-2C45E67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917-2B74-471A-93E8-90EFB5B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362-53D1-431A-8444-909A2E48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185-B449-4836-9DC1-B395CB3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92A9-F965-4AEE-AEE6-8B7D6C7BF974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magine 1" descr=""/>
          <p:cNvPicPr/>
          <p:nvPr/>
        </p:nvPicPr>
        <p:blipFill>
          <a:blip r:embed="rId1"/>
          <a:stretch/>
        </p:blipFill>
        <p:spPr>
          <a:xfrm>
            <a:off x="0" y="23328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24000" y="6432480"/>
            <a:ext cx="691344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sdotto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«Trans Adriatic Pipeline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a Te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crizione A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. n. OPL00-C10713-300-B-TVN-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75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96720" y="714708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rans Adriatic Pipeline AG Italia - Sede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Via IV Novembre, 149 - 00187 Roma,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el.: +39 06 69 76 5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Fax: +39 06 69 76 50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tapitalia@tap-a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r">
              <a:lnSpc>
                <a:spcPct val="106000"/>
              </a:lnSpc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200" spc="-1" strike="noStrike">
                <a:solidFill>
                  <a:srgbClr val="7f7f7f"/>
                </a:solidFill>
                <a:latin typeface="Arial"/>
              </a:rPr>
              <a:t>www.tap-ag.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800" spc="-1" strike="noStrike">
                <a:solidFill>
                  <a:srgbClr val="7f7f7f"/>
                </a:solidFill>
                <a:latin typeface="Arial"/>
              </a:rPr>
              <a:t>Tutti i diritti di proprietà intellettuale relativi al presente documento sono riservati. La riproduzione, la diffusione o la messa a disposizione di terzi dei contenuti del presente documento sono vietate, se non sono preventivamente autorizzate da TAP A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800" spc="-1" strike="noStrike">
                <a:solidFill>
                  <a:srgbClr val="7f7f7f"/>
                </a:solidFill>
                <a:latin typeface="Arial"/>
              </a:rPr>
              <a:t>La versione aggiornata del documento è disponibile nel database del Progetto TAP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"/>
              </a:spcBef>
              <a:tabLst>
                <a:tab algn="l" pos="0"/>
                <a:tab algn="l" pos="8892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0" y="162000"/>
            <a:ext cx="7561440" cy="64440"/>
            <a:chOff x="0" y="162000"/>
            <a:chExt cx="7561440" cy="64440"/>
          </a:xfrm>
        </p:grpSpPr>
        <p:sp>
          <p:nvSpPr>
            <p:cNvPr id="49" name="Freeform 3"/>
            <p:cNvSpPr/>
            <p:nvPr/>
          </p:nvSpPr>
          <p:spPr>
            <a:xfrm>
              <a:off x="0" y="162000"/>
              <a:ext cx="7561440" cy="64440"/>
            </a:xfrm>
            <a:custGeom>
              <a:avLst/>
              <a:gdLst>
                <a:gd name="textAreaLeft" fmla="*/ 0 w 7561440"/>
                <a:gd name="textAreaRight" fmla="*/ 7561800 w 7561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1867" h="2">
                  <a:moveTo>
                    <a:pt x="0" y="0"/>
                  </a:moveTo>
                  <a:lnTo>
                    <a:pt x="11867" y="0"/>
                  </a:lnTo>
                </a:path>
              </a:pathLst>
            </a:custGeom>
            <a:noFill/>
            <a:ln w="7308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"/>
          <p:cNvGrpSpPr/>
          <p:nvPr/>
        </p:nvGrpSpPr>
        <p:grpSpPr>
          <a:xfrm>
            <a:off x="0" y="10495080"/>
            <a:ext cx="7561440" cy="64440"/>
            <a:chOff x="0" y="10495080"/>
            <a:chExt cx="7561440" cy="64440"/>
          </a:xfrm>
        </p:grpSpPr>
        <p:sp>
          <p:nvSpPr>
            <p:cNvPr id="51" name="Freeform 3"/>
            <p:cNvSpPr/>
            <p:nvPr/>
          </p:nvSpPr>
          <p:spPr>
            <a:xfrm>
              <a:off x="0" y="10495080"/>
              <a:ext cx="7561440" cy="64440"/>
            </a:xfrm>
            <a:custGeom>
              <a:avLst/>
              <a:gdLst>
                <a:gd name="textAreaLeft" fmla="*/ 0 w 7561440"/>
                <a:gd name="textAreaRight" fmla="*/ 7561800 w 7561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1867" h="2">
                  <a:moveTo>
                    <a:pt x="0" y="0"/>
                  </a:moveTo>
                  <a:lnTo>
                    <a:pt x="11867" y="0"/>
                  </a:lnTo>
                </a:path>
              </a:pathLst>
            </a:custGeom>
            <a:noFill/>
            <a:ln w="7308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8:18:52Z</dcterms:created>
  <dc:creator>A32873</dc:creator>
  <dc:description/>
  <dc:language>en-US</dc:language>
  <cp:lastModifiedBy>Peppoloni Pier Francesco</cp:lastModifiedBy>
  <cp:lastPrinted>2016-06-21T11:49:58Z</cp:lastPrinted>
  <dcterms:modified xsi:type="dcterms:W3CDTF">2016-07-20T07:13:58Z</dcterms:modified>
  <cp:revision>155</cp:revision>
  <dc:subject/>
  <dc:title>Folie 1</dc:title>
</cp:coreProperties>
</file>